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C72-CA26-4DF0-B215-2D62C291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D26-97EC-4F88-BD3A-911AD33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58D-1904-40D9-B6B1-93E48F07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859-7716-49D7-8A89-AA8CB29E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91B-265B-434D-8C8F-708078AB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755-AF5B-41BD-8881-FA3BA37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E29-B526-4E7F-BB17-52C85D5A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0FE-87E1-4FDA-ABBA-BBA439E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FB3-251D-4468-99EB-EC1AE510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642-1FBD-43AE-9116-B597ED4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163-7C3D-474A-B772-15BDCBE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387-1521-4B33-9FB7-D691503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C7D-4FED-45E1-BC06-341B7550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tatement being argu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so called the proposi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in which you build your case using logical reasons and evid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in which you refute your opponents arguments and rebuild your case after your opponent has refuted your argu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urrent state of affai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. According to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tus qu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omen are allowed to seek an abor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ob of proving that some harm exists due to the status quo and a change is thus necess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in a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ffirmative speaks for  6 minutes, making a constructive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speaks for 6 minutes, making a constructive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calls on a subsequent speaker for the affirm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calls on a subsequent speaker for the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may continue to call on subsequent speakers as time and interest al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makes a rebuttal and closing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ffirmative makes a rebuttal and closing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or takes a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what the speaker has to say or want to question the current speaker, you may make a “Motion to extend the speakers time by a minute (for ques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tired of the debate, you may make a “Motion to previous question.” The debate will then move to closing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 to find out which side has better logical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hould you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thinking skills taught in debate can save you money, time, and trou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bate is the foundation of a democratic government. You live in a democrac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crush your enem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rm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equent 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tus qu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firma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argues in favor of the res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has the burden of pro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gets the first and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argues against the resol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speaks after the affirm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has the status quo in favor of their argu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eps order during the deb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es the resolution and spea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s on questions and subsequent spea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the final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lies best speaker ball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equent sp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 impromptu speaker on behalf of ei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speeches are three minutes l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yield your time to another speaker if there 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0:50:16Z</dcterms:created>
  <dc:creator>*</dc:creator>
  <dc:description/>
  <dc:language>en-US</dc:language>
  <cp:lastModifiedBy>username</cp:lastModifiedBy>
  <dcterms:modified xsi:type="dcterms:W3CDTF">2009-11-10T19:23:31Z</dcterms:modified>
  <cp:revision>6</cp:revision>
  <dc:subject/>
  <dc:title>Debate</dc:title>
</cp:coreProperties>
</file>